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03A2-2D09-4EEB-9CE7-FAA8712D8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8FED-AED9-4EAC-81A8-A59BD1BE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1596-6F7F-45B8-AB94-BA683699A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02F4-0116-4F93-9FBF-B79D088D7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50B9-7F5E-4662-B5F7-6178EC94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66ED-61CA-4334-AC75-F544B135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1DC8-BD7A-41AF-87B1-104931BA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7333-6AF7-4330-91DB-803E06CE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DB42-2060-4F39-8880-C8FE9E2E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1508-BA42-40CD-A85F-11144F72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95D2-010B-4CF5-8C65-D7C0F616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F14B-83ED-474C-ACD4-25130821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D32A-F634-4B48-93BA-4C069C4E7A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9098" t="0" r="0" b="15885"/>
          <a:stretch/>
        </p:blipFill>
        <p:spPr>
          <a:xfrm>
            <a:off x="1752480" y="0"/>
            <a:ext cx="60962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4419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Old English Text MT"/>
              </a:rPr>
              <a:t>The King of K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Mistral AV"/>
                <a:ea typeface="Arial"/>
              </a:rPr>
              <a:t>Jesus Chris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7724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62520" y="91440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rn in a stabl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King humbly riding on a donk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king who suffers for His su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60520" y="1600200"/>
            <a:ext cx="8021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5130" r="11539" b="0"/>
          <a:stretch/>
        </p:blipFill>
        <p:spPr>
          <a:xfrm>
            <a:off x="0" y="0"/>
            <a:ext cx="9296280" cy="73548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King who calls all people of the world to be his subject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King who rose from the d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38280" y="990720"/>
            <a:ext cx="41911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King who will reign forev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388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King who loves and car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you and me personall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46479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9098" t="0" r="0" b="15885"/>
          <a:stretch/>
        </p:blipFill>
        <p:spPr>
          <a:xfrm>
            <a:off x="1752480" y="0"/>
            <a:ext cx="60962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648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Old English Text MT"/>
              </a:rPr>
              <a:t>King of kings,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Old English Text MT"/>
              </a:rPr>
              <a:t>Lord of lords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Mistral AV"/>
                <a:ea typeface="Arial"/>
              </a:rPr>
              <a:t>Jesus Chris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omes to your mind when you think of “King?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743200" y="2209680"/>
            <a:ext cx="39862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rger 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41972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King of Far Far Aw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614600"/>
            <a:ext cx="739116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7776"/>
          <a:stretch/>
        </p:blipFill>
        <p:spPr>
          <a:xfrm>
            <a:off x="1295280" y="380880"/>
            <a:ext cx="6324840" cy="4743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409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losest Thing we have to a Kingdom in Ame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30492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ff"/>
                </a:solidFill>
                <a:latin typeface="Inkpen2 Script"/>
              </a:rPr>
              <a:t>Disne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al-life king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09680" y="5638680"/>
            <a:ext cx="5181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Juan Carlos of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19520" y="990720"/>
            <a:ext cx="3136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7162920" cy="5372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s live in palac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gs live in pomp and sty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4548"/>
          <a:stretch/>
        </p:blipFill>
        <p:spPr>
          <a:xfrm>
            <a:off x="380880" y="1289160"/>
            <a:ext cx="815364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Jesus is a King</a:t>
            </a:r>
            <a:br>
              <a:rPr sz="5400"/>
            </a:b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of a different kin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5:52:40Z</dcterms:created>
  <dc:creator>Frank Schaefer</dc:creator>
  <dc:description/>
  <dc:language>en-US</dc:language>
  <cp:lastModifiedBy>Frank Schaefer</cp:lastModifiedBy>
  <dcterms:modified xsi:type="dcterms:W3CDTF">2010-03-09T21:13:15Z</dcterms:modified>
  <cp:revision>13</cp:revision>
  <dc:subject/>
  <dc:title>The King of Kings</dc:title>
</cp:coreProperties>
</file>